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65E-F697-462D-943D-68B28421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2DB-1B58-4B02-A07B-6CD9EA4C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01F-F262-4A73-A8A4-75911619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EEC-4823-43C3-B902-82A24B2B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1B1-A072-4254-A022-C0F492E2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6C6-65AD-4361-9116-927ED897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980-3157-403E-8911-85C0A886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9F5-616D-42F2-9B27-0E87B9B8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5FD-528D-40FD-B8AC-404ADD79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110-B0DC-431F-9B1E-57FDF9E3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48D-AC4E-47A3-AC2A-E32A1415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D4F-C44C-4F21-BA10-2A54CF3F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6241-3072-494B-8D93-180D92F36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crel.org/sdrs/areas/issues/methods/technlgy/wisdom/reynolds2.htm" TargetMode="External"/><Relationship Id="rId2" Type="http://schemas.openxmlformats.org/officeDocument/2006/relationships/hyperlink" Target="http://www.ncrel.org/sdrs/areas/issues/methods/technlgy/wisdom/marrello1.htm" TargetMode="External"/><Relationship Id="rId3" Type="http://schemas.openxmlformats.org/officeDocument/2006/relationships/hyperlink" Target="http://www.ncrel.org/sdrs/areas/issues/methods/technlgy/wisdom/reynolds5.htm" TargetMode="External"/><Relationship Id="rId4" Type="http://schemas.openxmlformats.org/officeDocument/2006/relationships/hyperlink" Target="http://www.ncrel.org/sdrs/areas/issues/methods/technlgy/wisdom/rauch3/rauch3.htm" TargetMode="External"/><Relationship Id="rId5" Type="http://schemas.openxmlformats.org/officeDocument/2006/relationships/hyperlink" Target="http://www.ncrel.org/sdrs/areas/issues/methods/technlgy/wisdom/reed6.htm" TargetMode="External"/><Relationship Id="rId6" Type="http://schemas.openxmlformats.org/officeDocument/2006/relationships/hyperlink" Target="http://www.ncrel.org/sdrs/areas/issues/methods/technlgy/wisdom/clair1.htm" TargetMode="External"/><Relationship Id="rId7" Type="http://schemas.openxmlformats.org/officeDocument/2006/relationships/hyperlink" Target="http://www.ncrel.org/sdrs/areas/issues/methods/technlgy/wisdom/williams1.htm" TargetMode="External"/><Relationship Id="rId8" Type="http://schemas.openxmlformats.org/officeDocument/2006/relationships/hyperlink" Target="http://www.ncrel.org/sdrs/areas/issues/methods/technlgy/wisdom/reynolds6.htm" TargetMode="External"/><Relationship Id="rId9" Type="http://schemas.openxmlformats.org/officeDocument/2006/relationships/hyperlink" Target="http://www.ncrel.org/sdrs/areas/issues/methods/technlgy/wisdom/williams2.htm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How are decisions made as to what kind of technology a student needs? Who is involved in these decisions?</a:t>
            </a:r>
            <a:r>
              <a:rPr b="0" lang="en-US" sz="1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crel.org/sdrs/areas/issues/methods/technlgy/wisdom/reynolds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crel.org/sdrs/areas/issues/methods/technlgy/wisdom/marrello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How is the effectiveness of evaluation processes determined regarding technology integration? What are those evaluation processes?</a:t>
            </a:r>
            <a:r>
              <a:rPr b="0" lang="en-US" sz="1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crel.org/sdrs/areas/issues/methods/technlgy/wisdom/reynolds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crel.org/sdrs/areas/issues/methods/technlgy/wisdom/rauch3/rauch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Understanding that assistive technology is for students with disabilities, how do you feel about assistive technologies being applied for all students and how does assistive technology address the achievement gap?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ncrel.org/sdrs/areas/issues/methods/technlgy/wisdom/reed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For what specific purposes do you use assistive technology with special needs students in your classroom to support their learning and to motivate them?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crel.org/sdrs/areas/issues/methods/technlgy/wisdom/clair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ncrel.org/sdrs/areas/issues/methods/technlgy/wisdom/williams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How do you ensure effective use of assistive technology? Is it inclusive of all students? </a:t>
            </a:r>
            <a:br>
              <a:rPr sz="1400"/>
            </a:b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(Please note that assistive technology is referred to as instructional technology when used with non-special-education students)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ncrel.org/sdrs/areas/issues/methods/technlgy/wisdom/reynolds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ncrel.org/sdrs/areas/issues/methods/technlgy/wisdom/williams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crel.org/sdrs/areas/issues/methods/technlgy/wisdom/garcia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How do you encourage your students to challenge themselves to become independent learners and productive citizens, and use technology as a tool for learning?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crel.org/sdrs/areas/issues/methods/technlgy/wisdom/driessens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crel.org/sdrs/areas/issues/methods/technlgy/wisdom/reynolds1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05:29:24Z</dcterms:created>
  <dc:creator>Xiuwen Wu</dc:creator>
  <dc:description/>
  <dc:language>en-US</dc:language>
  <cp:lastModifiedBy>Xiuwen Wu</cp:lastModifiedBy>
  <dcterms:modified xsi:type="dcterms:W3CDTF">2008-01-31T05:36:45Z</dcterms:modified>
  <cp:revision>4</cp:revision>
  <dc:subject/>
  <dc:title>Slide 1</dc:title>
</cp:coreProperties>
</file>